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60EE3-A4C1-437D-BA83-F1AD01764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B360431-5814-4211-9C8E-9F4859939F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8311AF1-2FAB-40F1-AF59-0AD9747879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50E82F8-FF89-4F21-9668-55741A5126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218297C-2043-4D85-98BB-13C3F32705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A6C1170-0AA4-4356-A27B-F2B122A4A9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F5222F5-217B-46DC-B2F0-9429543E89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990DFAF-617C-43C2-8A71-810FD63B62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BE7D664-2BA9-4FD0-8BE1-EC806610D5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C2131F1-C92E-4B70-8404-C600FD4CBA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EB378E8-3295-40A6-9DB2-CC216D2189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E195B0-0CF7-4900-B92C-BDC81909A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AF93680-CA33-4008-B5E4-13F3D2B8F8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CA5BF02-CB39-4BE8-87D1-E038DECFD1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7EC87C8-DF2C-4B86-AD4B-26650B986C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0605B53-8FE7-4455-85AE-60E629240D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A6164FA-8BD9-401B-A66B-5FE6BDEE18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44AD10E-0D2C-456F-9E7B-F207E53439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0BC1515-CCF2-4135-8D41-478BB73296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CBB2128-F7E9-4128-8132-BF57D3E837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982EDC9-3438-4BCF-8FE2-ED328EE581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3515280-CD2A-476D-B383-EC0E21D811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5F31425-77AA-45CE-9D45-BBB6805B6A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6DD4178-EC05-4B71-AD05-6205E25E6B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392649B-891F-4BD2-87FB-181D21AC36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975F5EF-6C9C-487C-8C6A-9010C4510AF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7DC52E5-3A91-425A-9ED1-74BE6F478AC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C3FCBD7-6056-47E4-AF60-EB92D5C236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61AD205-9A44-419E-B2AE-4CA528AC70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66D4A96-4475-4C7F-B54E-0ED09FF738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9810A9D-825A-4D77-AB60-79866D8913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709F785-34AB-423D-A34A-F8F073489E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9BDF05C-3F7C-4A4A-9D5A-3AB2E6CEA9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4CB566F-85A4-4931-8BD2-5B027D8EA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0F9613E-F57F-4408-871D-21380B5277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BF45E5B-FBE9-441B-8FB9-46926B245C7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5D844C7-995B-49E7-B251-1FD812E7E8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FE1CD55-D006-411E-9B11-880CF775FA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F67D88F-667F-458C-A3FE-5095644EC6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4BB6DA2-E286-412D-AA4F-6C2C0BD2D3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110A277-21F0-4AF4-84EB-6CFC6245FB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CF4EC7B-AFA5-43D7-98B3-DCBF5756FF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AC77E67-5584-4C88-BDE4-CC50794184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AD902E5-1D02-4831-B5A9-FA232D5B1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8507A64-02AC-4DBD-97B2-AFBF8A6786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97F3F0A-F3C1-4E5B-AD39-50CE5B80F4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0538F2C-19E8-4E8E-B5B9-0F6C085A5C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D01C5CE-206C-4376-BAED-D0767D9847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582253D-297E-4FCC-B7F6-68B8FB07F4F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C7AED49-1039-4FE6-BDFB-1C900DD69FA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AD8AD8F-92F9-4D67-B66A-1337384300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E0C393E-7EFC-40C7-AF4D-CABA9BA3CF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3574EFB-D9A9-4E59-B5D4-9B76A0D13C1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19B0DFA-4D39-4FA8-B83B-DC74E7FF29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EE97592-C256-4D24-B851-4EB54306928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2781578-2D47-404D-8431-C6A59389056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0DEA049-1BDC-4B18-9FEC-7A901100378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492ADC8-3634-48BE-AC21-E7AFC4AB49C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D045325-11DE-48A9-881F-ECC980B3CE8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76B6551-EE73-43DA-A2FB-4D8FEB1D6A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6607F2A-5EE3-4228-8682-CF20EABEE16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CBC8C16-4DE8-408A-ADB3-169CC9FE339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7559A50-B37E-4428-A42B-FB9F512AB46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42A0627-9DAA-4623-BB99-D7E46B9690D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AE8A5CF-4659-46DC-BF90-E2576081E78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5C68C49-3A45-4242-B933-AC012992342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1B8DBBA-9D6C-4BBD-B585-8230249D2B7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563FD46-A198-4776-A6FA-AC04E66DD02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E564C66-8645-49E1-99C9-2A9AE4C65CF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D7A9E85-412C-4711-AE86-AA462264A5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59A0B66-A848-4431-91E5-63950CB417F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21CDDD82-5EB2-4ABA-A224-758F4377E37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DF630FB-CF53-4055-971C-BFD567949E8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32BB1F2-1413-4525-A256-B7CB7DED73D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D20185E-9432-44DA-B59E-CB7BBB211B9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18F3AA9-8A59-4B5E-B790-16333D42B41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071EDAD-18AA-4864-8567-C08A0BE610E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A7CEA91-97F9-432D-AD12-29CC8E856F2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F96DC5B-A599-47E2-8D0C-C27A9361F88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7CCCC08-F172-4A53-A853-05D5B8E0F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19843CB-39DA-4679-B429-0974107748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81C34EA-301F-4EB7-988C-D26CD455CBB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C1ECC48-762E-4F42-8A62-935C6BE7584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089D62C-57E9-4463-8D39-5283454DB7C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A7549E0-7DD6-49AA-BE94-56B90F39DE8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A29A433-586A-4628-91F8-0E893AD3A58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863B9FE-70EB-4830-A219-8974DDEBB50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18B385F-3449-4C03-8E20-A0310695311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F59C3FA-8785-4919-9487-2B0E69E2D1A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08F288C-B96B-4772-BF09-FC6F6443CD0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25BA44D7-7CC1-4345-A773-DE0BDBF51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EF95AA3-D181-45C5-ADFB-804632F2472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8E4DEEC-76CB-474C-BDD3-7755A0A5BDB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ECC0D07-C086-4AB0-8E66-CF1CD4EE8CE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EFD4511-C4E7-4DC4-9DDF-1C2369473D0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8EDDE83-0EDE-4982-9EF1-D849DFB6816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4762812D-41CC-4D18-A50F-5A9EBA8B655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940B4DE-4B0C-4506-8D3C-EB6BB26B763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B78328B-BDC8-4A18-8749-DE48B7BA79C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94B0CEF-7636-4C31-9998-A9D097B00F9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14514C5-1AA0-45DF-91A2-92C3C5D15D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665DF62-0C56-422C-B149-07F6FC445C1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9B54209-9478-4CF6-B587-DE7B49CC1D9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045D599-5B2B-4086-9A41-CAB3212ADAB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858241A-1056-4A11-9FE5-05B9E4C7738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46FD5F7-A397-4284-AB5B-60741136338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6AC656-3F7A-45C3-A0D3-87B92DFF9E5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3E7F612-6A77-48CE-87B2-8DECFD8F20C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277A6DD-6673-457D-90BB-973A6C854D4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D05D83F-77E5-4AFA-8D22-FEB380EB737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90201B9-A445-4749-8C5F-8E4093AC28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DFB41B8-F36E-4698-8A88-99AEA1F92C5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FE35A5D-1324-43CE-8D18-87188F9D0BB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90ACF46-001C-4876-80F7-8F6D39E78F4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7CF2C62-696A-4B43-951F-37C669A223A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0C77689-827D-4DCB-AA48-6C095B130B3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FB432BB-0DD8-467B-A7E6-7A3FBA3C334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2CDD8FD-6B77-47BE-95E9-5F15A825A8F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DDD0128-474C-4ADF-9E1A-00ADB6A1255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105EEB8-B071-4EC5-B6DE-7CDF04E4666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7650C72-1E84-4926-930F-3A13D969B9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78EB574-B834-41D4-A2FD-8AA92D7215F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2D3EECC-B6B8-44B8-BD27-09A331BF790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E686A03-B32D-4F24-91E3-D4A02953A9B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18C1184-5ED9-48CA-A9D5-6CC9D2FE156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C7AC0C7-9F80-48BC-9A54-A336DB13C54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3D216DD-9BB0-41B7-B03D-7904F101CC9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20F2059-8186-4348-9D7B-F2911BDA2FE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CDB3312-E9EA-4D92-9D84-B399F419BBD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B28CADD-4EF3-4A37-9A41-86E376FEF18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B60A682-33EB-4CA1-B404-E3B9DA266C5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1508AF-0092-4292-9023-6673B5E2D60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8E47EE3-ED50-42CB-9EE5-F724BEB788A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E7A6E9C-CDE3-407E-B8B9-978D899A07B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E5B6F39-F9FE-4281-8AEA-52B7DF126A7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35F4210-747E-40B6-BB5B-D822865D9B6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0BB1904-20F4-4013-A08D-7AA9900517B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AFD2C71-549F-424C-85C4-486DE79E807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03BD5AE-6D19-4CB0-8660-BC7B3EDC6DB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5511BDC-F516-450A-BF85-4513971511C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371A9E5-6D89-402F-843D-7B1993119D9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9B4ED16-5020-4D1F-8265-C0DF44A35C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2708D39-D0CA-41D5-B160-D41DBC36B44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770FA2E-339E-4192-A947-9B21997379B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7F6FD07-B8CC-4FCF-8F9A-F27A936EAEA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3C0D0C9-EAAE-42F2-9C0B-04BFDE665C3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F588662-D31E-4D63-91CB-DA8B1ED9F99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6ED531A-E8D5-4D09-9408-C5221E55999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8C99192-F2C4-4514-855C-911AF472497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1FD0A96-C394-41D4-A2D6-1FB10130EAA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1D4A08E-637A-4A35-9299-A7B354182AE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B5520C0-4874-4AEE-8E0A-EF0E4DF707A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9329CC27-3542-49A1-AF1E-A9979EA5F1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F68B90B-2650-4ACC-8C09-79CDD21D5C6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1C5D1DE-E24E-4085-B6C4-8319658A78F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CFC7E6D-0F82-45BF-AE0E-7C5762ADAF1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3CC48BD-CBB1-4B5F-AC41-96EE67B9A8C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4B0403E-A83A-4BBC-A704-A073D5D5ED1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A4676E3-25CB-49A0-8E38-4C01A7BCD16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BE49E37-FF0F-4D83-8B49-276568CE1E9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6FE94B2A-68A4-48EF-9F52-A64A50B2AF1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A7820C1-B1F0-4336-A4DD-594B5576AE3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4B40E38-789D-4381-8924-2B0C9B685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0A0CC39-35D3-4EC3-8BE9-18FB811707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709C6CC-5C18-480C-908E-F2FEA58ADD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D9F11EF-CF66-4C6A-B58F-F7DCA9D570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4767E10-BCFF-4B9A-9374-A52C36E23E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E628D9E-2F18-49C6-91A0-EC7D520BEF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7172E23-4AC1-4881-8702-02D5569310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B7C1C34-AB26-4048-BF4A-A2A5B4C876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AEA77C9-DC78-481F-BB5E-7CB78A10E8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C0B9D1-195C-486C-B06B-65FF93253B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7E43EBC-831C-4CA5-85A4-89FD8D937D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F1D66AD-4462-4714-B0CB-38EA0B67C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26A45B0-9BFB-460C-A43B-EDC40CE978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7B784E1-6373-4A38-9AD3-A1C54F746C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BFD7D15-383C-47D4-9015-FDE62553C9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ABC261A-5762-46E6-A03C-82C2D6D05D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B895072-0C17-496F-9335-BCCDE3EFFE4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057F31C-17D5-49DE-9CF8-BCC8730EA17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A281DEE-102B-4728-B5A5-7C682090EE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2C07D65-9FD4-40DF-8F4F-3E057CD866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D92C555-64BE-4E55-939A-16A0C0E4B5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8E973B0-E68E-401E-8EC8-ED8E7343DD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39524-DA8F-4D85-958B-04F1AF261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688BCE1-C884-4903-9F0D-67CB9B3A37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9409D94-D2CA-48B2-A848-9B70F8231B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818321D-B6DA-4DF4-8DB0-97A26E5FCF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553D86F-0F01-4767-8878-373E1E17E1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298EDCB-9252-4202-AD2D-5ADC3E4E07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9129469-2164-41EE-B5D6-9155CA525F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874C28-EC0B-4283-AC6E-3770E16157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CC28821-5263-493E-8FF0-1DC88500CF1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73FA2D7-91E0-4E5C-B24E-CC523229E8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FE36C4E-1F2E-4048-8C5C-A087FBE7810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3EA00A2-7F5E-4492-B608-E844DD3DE9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AC0AB17-A422-4E28-85C4-CCF5EA780B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82217B1-CA30-4B8D-9B1D-4C7FA8FF9C7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A46A64-6694-4DC0-8834-B02F0F610C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A34FF27-E6E9-48CE-926B-08FBC90884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AF6877E-0ED9-4B20-8F0A-D526985868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0701F38-39AA-4FAE-B3EF-420E0E496A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1B18C12-DD48-4D11-B322-1CD4A3EC070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1486296-6BD4-4CF1-9349-9D669961BC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2B0C8A2-88C3-48A0-AD2F-558CCA5EB7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D2651CA-0A0D-494A-B98C-C84EBED8BC6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E5A718D-EED0-47D6-9BBD-08B1DC0C0B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66A28F0-6948-4C79-A8E6-B667206822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9068129-1A17-48F8-9C42-E46236098C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E3BD6FA-9275-43D6-8DA7-3DB0B0813A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65FF851-E1AF-4EDD-BF8A-62E3A98140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3F05CD-BA62-4481-9E65-7693F835D79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628D7F3-20AA-44A0-AAA6-BDEA9D4725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7F5CBA8-1732-428A-B042-2CE58B744E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4D95F16-1745-409D-96CC-C40368DB8B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F414FCF-259F-4F15-BADA-6DF1411880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28CD85B-F84A-456F-9BAC-9B7618C093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CE5BE3F-21DD-4109-9997-794EB0AC2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E8DB090-9278-4A9F-B037-C31B8027C6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BD430B6-1572-468F-BF10-68835AA6C9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87EFDEF-9505-42CF-A05C-77DB74BE18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0A72BC3-61E4-454F-ABBC-260EF5E7F7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6EBDC4E-58F0-4013-9537-A156AAAE424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7C96568-849D-4B3B-8529-476BFCB2268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EB24F54-F9DC-4504-BDEA-94690DEF5E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EEE3B29-A732-4BB4-B393-6538336AC6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B40A62A-226B-42A2-9F13-0C212F8AE8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9C66F26-E151-4C74-876E-DB39112554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9E9A41D-39B1-41EF-ADF0-0ECB74B3D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E6EDED6-63FD-4DAC-B4F3-F777D904CC4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971BAE8-DE59-4A16-9ED2-4ADDEDDDFF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28E4E14-DD43-4F3E-813B-DB30ED9C0A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4D91730-EFB6-43C8-A45C-8184EC6101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1EFA0B9-5328-4FEF-8526-F3FC5CB2D0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C0C3320-A83F-4003-BEC7-2517179FAD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BF58488-B070-47E5-8CD8-BEB01B2D1A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C615405-4867-4BD7-BADC-5FE689D9BA2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4B7470C-BD56-4F93-A184-ED9BAFE4B0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7E10C57-21D0-4C41-994B-B18118CEAE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F76BD34-5B84-41E3-830F-57F9A9B5F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E404-C532-487E-9F24-1E19336DC33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484C-0767-4308-BE03-CEB486AFC3A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1723-4228-4E07-AFB9-632C1E3C73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A919-7BAE-4DE2-A23C-04D439F0DA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2101-D9C4-42BF-8CEB-957B6373A1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A760-D6FB-4D44-AD80-9344621BBA8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47B4-8B84-457B-A054-AFF8DB1CE5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9560-EE1E-4BCE-AFD6-3C5EDDDEB3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1C96-79B5-4B5B-A875-EDE55260F4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C0B2-27DE-4CD5-9CD8-96531FFD42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CDE8-B42E-4ECD-A2B3-6D04642C1C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CD2B-A013-4FA6-98A6-0637257252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B9CE-4A91-4405-8ADB-66B24D861D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EA4F-5FB0-441E-8645-F6D06473FE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E360-1B8F-41AE-BF4D-74A17C3EE6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9D24-1099-4605-9E5C-B38C6A3888D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68CB-C1FE-49B4-89B9-1D9C21B729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2009-0BA7-4BCC-95FD-31E9C64335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46B9-3AF8-482F-AE8A-36A8AFBD6B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9D68-A669-4E92-AB5F-5232BE4AC4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BD2C-13E3-4891-A99D-C70A20DFD5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99D9-0C77-4B3D-8F63-79ED3F5A43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AA7C-316F-433F-AAFA-C72CC7B43B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3633-6ED2-4377-BAB3-345A9B5B37D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6CB2-669F-4288-ADD4-019E4D212C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4B8E-6C8F-432A-8B0B-4734D59FB3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188A-C596-4559-8D2D-B71CBBDAC8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13D5-92A0-420F-B74F-3D75AEEA10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4DBC-BF4D-4B1A-BED0-DE0FF20009A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728B-DAFF-4EC9-932D-6E78D1C6A7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24AA-B982-4FED-B52D-A45CD7259C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2DDB-0618-44D7-9D8F-A996B5447B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B80A-1A7C-47A9-BA23-4D9E47D1A4B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C5C2-7BEC-45EA-A403-C3041FDB960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758A-6D09-43BF-A637-0B61F6414E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8A20-0DA5-49E8-8BEB-022C5B0A66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A648-5317-41AD-AA6B-6944DA8F94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50CC-1EAB-4AD8-8417-CCFD5C2D50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3FDF-1716-4513-87F9-35CB48CBFD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AAC3-66CB-42BE-8C49-67D6153BA6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A348-995D-44F9-AEE1-7940913EAF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McGrath Edward J</cp:lastModifiedBy>
  <dcterms:modified xsi:type="dcterms:W3CDTF">2014-03-24T15:44:50Z</dcterms:modified>
  <cp:revision>35</cp:revision>
  <dc:subject/>
  <dc:title>Text-Dependent Questions</dc:title>
</cp:coreProperties>
</file>